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0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FD6-43C5-43EB-BF43-F9A4568F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D2B-71BD-4DFB-9254-823570EB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218-6E33-43F2-98E5-ECB1D3DE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28D3-58C6-4A72-97DA-3AAC71A6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58D5-546A-4848-A505-33A7553A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FBBD-87BC-40C3-995E-60551EA0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B406-1E67-4697-A735-41A18ECE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6D94-3DEA-47DD-8222-7239EEC8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B07F-174F-4EAA-91F3-15CD401D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2498-79EF-45C5-8071-6E845E9E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0F26-86B1-4402-BAC4-0F688290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7EA3-2723-42D1-85E2-1E9E04BF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64EC-E86B-447E-AA60-02E13CE2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C087-D019-450D-9D61-502DBF90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D176-5E35-41F3-B93F-C7D31DA8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0455-EF26-42B2-883F-F615AA65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D9BB-D996-42F6-9331-6A1E87F0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389-6F36-48ED-B933-AC238275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CBF-8E60-4707-87F0-E7F4DE03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43D-C5C1-465E-BDBA-206A8C7A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71B-D67D-4DD9-9822-5B754D28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463-6009-45D6-950E-8EB5DF35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7CC-099A-4EA0-B667-392E6F31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27A4-1153-439D-917C-E5D5EF6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AFB3-A946-44E9-8E29-B3B02C03ED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8DE8-AED8-49C4-9167-1E65C84604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assé Composé ou Imparfai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18960" y="32000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st la </a:t>
            </a:r>
            <a:r>
              <a:rPr b="0" lang="en-US" sz="36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question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Continual   a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egard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 tableau quand mon portabl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onn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9780711232129.jpg"/>
          <p:cNvPicPr/>
          <p:nvPr/>
        </p:nvPicPr>
        <p:blipFill>
          <a:blip r:embed="rId1"/>
          <a:stretch/>
        </p:blipFill>
        <p:spPr>
          <a:xfrm>
            <a:off x="2133720" y="4038480"/>
            <a:ext cx="5181480" cy="21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DownloadedFile-4.jpeg"/>
          <p:cNvPicPr/>
          <p:nvPr/>
        </p:nvPicPr>
        <p:blipFill>
          <a:blip r:embed="rId2"/>
          <a:stretch/>
        </p:blipFill>
        <p:spPr>
          <a:xfrm>
            <a:off x="3962520" y="3809880"/>
            <a:ext cx="203184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6708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à l’épo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autre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’hab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souv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quelque 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e temps en te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le dimanche, le lu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6" descr="MCj04235510000[1]"/>
          <p:cNvPicPr/>
          <p:nvPr/>
        </p:nvPicPr>
        <p:blipFill>
          <a:blip r:embed="rId1"/>
          <a:stretch/>
        </p:blipFill>
        <p:spPr>
          <a:xfrm>
            <a:off x="6858000" y="0"/>
            <a:ext cx="164448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6708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ou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ous les 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ra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généra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MCj04235510000[1]"/>
          <p:cNvPicPr/>
          <p:nvPr/>
        </p:nvPicPr>
        <p:blipFill>
          <a:blip r:embed="rId1"/>
          <a:stretch/>
        </p:blipFill>
        <p:spPr>
          <a:xfrm>
            <a:off x="6858000" y="0"/>
            <a:ext cx="164448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Conditions (non-action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88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re is a class of verbs which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do not express action at all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Rather, they express </a:t>
            </a: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conditions, states of being, or states of mi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When these verbs occur in a past tense, it is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almost alway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8000"/>
                </a:solidFill>
                <a:latin typeface="Tahoma"/>
              </a:rPr>
              <a:t>the imparfait.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j0294935"/>
          <p:cNvPicPr/>
          <p:nvPr/>
        </p:nvPicPr>
        <p:blipFill>
          <a:blip r:embed="rId1"/>
          <a:stretch/>
        </p:blipFill>
        <p:spPr>
          <a:xfrm>
            <a:off x="1219320" y="2057400"/>
            <a:ext cx="3527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3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200400" y="1676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pen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323520" y="281952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sav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229560" y="3962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cr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397320" y="510552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voir et êt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MPj04033300000[1]"/>
          <p:cNvPicPr/>
          <p:nvPr/>
        </p:nvPicPr>
        <p:blipFill>
          <a:blip r:embed="rId1"/>
          <a:stretch/>
        </p:blipFill>
        <p:spPr>
          <a:xfrm>
            <a:off x="1066680" y="175248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6284520" y="266688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Voul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6052680" y="3809880"/>
            <a:ext cx="18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pouv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581280" y="23623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939480" y="380988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dét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" descr="MCj03972500000[1]"/>
          <p:cNvPicPr/>
          <p:nvPr/>
        </p:nvPicPr>
        <p:blipFill>
          <a:blip r:embed="rId1"/>
          <a:stretch/>
        </p:blipFill>
        <p:spPr>
          <a:xfrm>
            <a:off x="990720" y="2057400"/>
            <a:ext cx="213336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676520"/>
            <a:ext cx="38102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emember that the </a:t>
            </a:r>
            <a:r>
              <a:rPr b="0" i="1" lang="fr-FR" sz="2800" spc="-1" strike="noStrike">
                <a:solidFill>
                  <a:srgbClr val="ad0000"/>
                </a:solidFill>
                <a:latin typeface="Tahoma"/>
              </a:rPr>
              <a:t>passé composé</a:t>
            </a:r>
            <a:r>
              <a:rPr b="0" lang="fr-FR" sz="2800" spc="-1" strike="noStrike">
                <a:solidFill>
                  <a:srgbClr val="ad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s used to express </a:t>
            </a:r>
            <a:r>
              <a:rPr b="0" i="1" lang="fr-FR" sz="2800" spc="-1" strike="noStrike" u="sng">
                <a:solidFill>
                  <a:srgbClr val="ad0000"/>
                </a:solidFill>
                <a:uFillTx/>
                <a:latin typeface="Tahoma"/>
              </a:rPr>
              <a:t>completed past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j0237922"/>
          <p:cNvPicPr/>
          <p:nvPr/>
        </p:nvPicPr>
        <p:blipFill>
          <a:blip r:embed="rId1"/>
          <a:stretch/>
        </p:blipFill>
        <p:spPr>
          <a:xfrm>
            <a:off x="5943600" y="1523880"/>
            <a:ext cx="2282760" cy="1981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j0198099"/>
          <p:cNvPicPr/>
          <p:nvPr/>
        </p:nvPicPr>
        <p:blipFill>
          <a:blip r:embed="rId2"/>
          <a:stretch/>
        </p:blipFill>
        <p:spPr>
          <a:xfrm>
            <a:off x="1523880" y="3886200"/>
            <a:ext cx="140976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"/>
          <p:cNvSpPr/>
          <p:nvPr/>
        </p:nvSpPr>
        <p:spPr>
          <a:xfrm>
            <a:off x="3962520" y="439884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imparfai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exp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habitual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continuing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2209680" y="19810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imparfai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exp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Description and emotions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NaturesScenery.jpg"/>
          <p:cNvPicPr/>
          <p:nvPr/>
        </p:nvPicPr>
        <p:blipFill>
          <a:blip r:embed="rId1"/>
          <a:stretch/>
        </p:blipFill>
        <p:spPr>
          <a:xfrm>
            <a:off x="1219320" y="373392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images-3.jpeg"/>
          <p:cNvPicPr/>
          <p:nvPr/>
        </p:nvPicPr>
        <p:blipFill>
          <a:blip r:embed="rId2"/>
          <a:stretch/>
        </p:blipFill>
        <p:spPr>
          <a:xfrm>
            <a:off x="5105520" y="4038480"/>
            <a:ext cx="3301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0"/>
          <p:cNvSpPr/>
          <p:nvPr/>
        </p:nvSpPr>
        <p:spPr>
          <a:xfrm>
            <a:off x="457200" y="152388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Au centre, écrivez une activité que vous avez fait le weekend dern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00"/>
                </a:solidFill>
                <a:latin typeface="Tahoma"/>
              </a:rPr>
              <a:t>Puis sur les pétales, donnez des détails sur cette activit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images.jpeg"/>
          <p:cNvPicPr/>
          <p:nvPr/>
        </p:nvPicPr>
        <p:blipFill>
          <a:blip r:embed="rId1"/>
          <a:stretch/>
        </p:blipFill>
        <p:spPr>
          <a:xfrm>
            <a:off x="2514600" y="3505320"/>
            <a:ext cx="4876920" cy="29829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0033"/>
                </a:solidFill>
                <a:latin typeface="Tahoma"/>
              </a:rPr>
              <a:t>Prenez un tableau et dessinez une fleur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images.jpeg"/>
          <p:cNvPicPr/>
          <p:nvPr/>
        </p:nvPicPr>
        <p:blipFill>
          <a:blip r:embed="rId1"/>
          <a:stretch/>
        </p:blipFill>
        <p:spPr>
          <a:xfrm>
            <a:off x="1752480" y="1981080"/>
            <a:ext cx="6172200" cy="43545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0033"/>
                </a:solidFill>
                <a:latin typeface="Tahoma"/>
              </a:rPr>
              <a:t>Exemple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4191120" y="3657600"/>
            <a:ext cx="144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e suis allé au ciné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5181480" y="2362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’était 7: 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6095880" y="350532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l faisait froid et il pleuva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5105520" y="48006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Je portais un impermé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2057400" y="365760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J’étais avec  mes par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3124080" y="5105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ais j’étais mal luné 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3048120" y="243828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e film était nu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3200400" y="16765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i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3391920" y="2743200"/>
            <a:ext cx="22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omple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3352680" y="3809880"/>
            <a:ext cx="15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536280" y="4952880"/>
            <a:ext cx="39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Verdana"/>
              </a:rPr>
              <a:t>eginning and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j0234131"/>
          <p:cNvPicPr/>
          <p:nvPr/>
        </p:nvPicPr>
        <p:blipFill>
          <a:blip r:embed="rId1"/>
          <a:stretch/>
        </p:blipFill>
        <p:spPr>
          <a:xfrm>
            <a:off x="838080" y="1905120"/>
            <a:ext cx="20782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5770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ils ____________ le châtea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qui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s _________ fatigués, et 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ê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 très cha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fa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3581280" y="1828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ont quit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676520" y="3886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fais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13372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ét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10552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733920" y="3429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3200400" y="4724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garçon ____________ à nos 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dema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ce qu ’ils ___________ prendre.  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voulo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__ une g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comman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581280" y="1828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 deman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1219320" y="3809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ont comman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352680" y="26668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voula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105520" y="15238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257800" y="3581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191120" y="47242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elle _________ plus jeu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êt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Suzanne ________ français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par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anglais.  Mais elle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oubl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 ’angl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098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ét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800600" y="38098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 oubli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971800" y="2743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parl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724280" y="16002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4876920" y="3429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505320" y="4800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 soeur __________ au foot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jou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elle ___________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to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__ la chev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se foul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098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jou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219320" y="3809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s ’est fou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505320" y="281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est tomb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029200" y="16002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tinuing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5486400" y="34290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3581280" y="48006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mpleted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Test Yoursel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3880" y="18284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Quand j ’_________ neuf a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avo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j ’ __________ à Paris, et j(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habi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_________ le métro tous les j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(prend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5812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av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143000" y="3809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pre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1828800" y="2743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habi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5029200" y="1600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3809880" y="3581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3352680" y="4800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abitual pas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Jeudi dernier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, je suis allé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New York avec mon am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ét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train.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pr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train à 9 heures et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sommes arrivé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Grand Central à 10 heures 1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D’ab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b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café, puis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visit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musée Metropolit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Après ç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avons mang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Finaleme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us </a:t>
            </a:r>
            <a:r>
              <a:rPr b="1" lang="en-US" sz="2800" spc="-1" strike="noStrike">
                <a:solidFill>
                  <a:srgbClr val="e70000"/>
                </a:solidFill>
                <a:latin typeface="Arial"/>
              </a:rPr>
              <a:t>sommes rentré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Fairfield le so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34131"/>
          <p:cNvPicPr/>
          <p:nvPr/>
        </p:nvPicPr>
        <p:blipFill>
          <a:blip r:embed="rId1"/>
          <a:stretch/>
        </p:blipFill>
        <p:spPr>
          <a:xfrm>
            <a:off x="7315200" y="-4680"/>
            <a:ext cx="144792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6019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un jour / une f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e jour-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ce matin-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à ce moment –l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tout d’un c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u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Soud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MCj04235510000[1]"/>
          <p:cNvPicPr/>
          <p:nvPr/>
        </p:nvPicPr>
        <p:blipFill>
          <a:blip r:embed="rId1"/>
          <a:stretch/>
        </p:blipFill>
        <p:spPr>
          <a:xfrm>
            <a:off x="7010280" y="1295280"/>
            <a:ext cx="1644840" cy="1832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4200" spc="-1" strike="noStrike">
                <a:solidFill>
                  <a:srgbClr val="330033"/>
                </a:solidFill>
                <a:latin typeface="Times New Roman"/>
              </a:rPr>
              <a:t>MOTS </a:t>
            </a:r>
            <a:r>
              <a:rPr b="0" i="1" lang="en-US" sz="5400" spc="-1" strike="noStrike">
                <a:solidFill>
                  <a:srgbClr val="330033"/>
                </a:solidFill>
                <a:latin typeface="Times New Roman"/>
              </a:rPr>
              <a:t>clé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h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undi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e mois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a semaine derniè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e weekend de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l’année derniè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ff0000"/>
                </a:solidFill>
                <a:latin typeface="Arial"/>
              </a:rPr>
              <a:t>il y a ---- j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Cj04235510000[1]"/>
          <p:cNvPicPr/>
          <p:nvPr/>
        </p:nvPicPr>
        <p:blipFill>
          <a:blip r:embed="rId1"/>
          <a:stretch/>
        </p:blipFill>
        <p:spPr>
          <a:xfrm>
            <a:off x="7162920" y="304920"/>
            <a:ext cx="1644480" cy="1831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330033"/>
                </a:solidFill>
                <a:latin typeface="Times New Roman"/>
              </a:rPr>
              <a:t>Uses of 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he imparfait, however, by definition, means </a:t>
            </a:r>
            <a:r>
              <a:rPr b="0" i="1" lang="fr-FR" sz="2800" spc="-1" strike="noStrike">
                <a:solidFill>
                  <a:srgbClr val="000000"/>
                </a:solidFill>
                <a:latin typeface="Tahoma"/>
              </a:rPr>
              <a:t>imperfec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.  Its uses are much less clearly defin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1600200" y="3505320"/>
            <a:ext cx="7238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They fall into three basic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abitual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tinuing past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escription (non-actions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5943600" y="40384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used to 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6400800" y="45720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was do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6629400" y="510552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9966"/>
                </a:solidFill>
                <a:latin typeface="Tahoma"/>
              </a:rPr>
              <a:t>(d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87120" y="1752480"/>
            <a:ext cx="34527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275480" indent="-141480">
              <a:lnSpc>
                <a:spcPct val="80000"/>
              </a:lnSpc>
              <a:spcBef>
                <a:spcPts val="901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99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352680" y="16002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ontinu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389400" y="2743200"/>
            <a:ext cx="15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nd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469320" y="380988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imes/ w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429000" y="4952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469320" y="22096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abi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352680" y="3276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387240" y="441972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00"/>
                </a:solidFill>
                <a:latin typeface="Verdana"/>
              </a:rPr>
              <a:t>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613560" y="2116080"/>
            <a:ext cx="223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Verdana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5105520" y="289512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5257800" y="2666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5943600" y="20574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3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7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Description (ma journée à N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fais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 et chau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’ét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 printemps. Il y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v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aucoup d’arbres en fle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’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ét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ureuse</a:t>
            </a:r>
            <a:r>
              <a:rPr b="0" i="1" lang="en-US" sz="2800" spc="-1" strike="noStrike">
                <a:solidFill>
                  <a:srgbClr val="ff66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porta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 joli chapeau à fle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0000"/>
                </a:solidFill>
                <a:latin typeface="Times New Roman"/>
              </a:rPr>
              <a:t>Passé Composé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 ou </a:t>
            </a:r>
            <a:r>
              <a:rPr b="0" i="1" lang="en-US" sz="4200" spc="-1" strike="noStrike">
                <a:solidFill>
                  <a:srgbClr val="009900"/>
                </a:solidFill>
                <a:latin typeface="Times New Roman"/>
              </a:rPr>
              <a:t>Imparfai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3429000" y="304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Habitual  a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d j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’éta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un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us les jours, j’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ida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 mère à faire la vaissel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 temps en temps mon frère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ondai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 gazon, mais souvent il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jouai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 baseball avec ses am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j0232738"/>
          <p:cNvPicPr/>
          <p:nvPr/>
        </p:nvPicPr>
        <p:blipFill>
          <a:blip r:embed="rId1"/>
          <a:stretch/>
        </p:blipFill>
        <p:spPr>
          <a:xfrm>
            <a:off x="7543800" y="380880"/>
            <a:ext cx="1276200" cy="1905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0199036"/>
          <p:cNvPicPr/>
          <p:nvPr/>
        </p:nvPicPr>
        <p:blipFill>
          <a:blip r:embed="rId2"/>
          <a:stretch/>
        </p:blipFill>
        <p:spPr>
          <a:xfrm>
            <a:off x="6858000" y="4038480"/>
            <a:ext cx="16588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2:19:41Z</dcterms:modified>
  <cp:revision>79</cp:revision>
  <dc:subject/>
  <dc:title>Allez, viens! – Level 2</dc:title>
</cp:coreProperties>
</file>